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F2F-600D-419A-A48D-59D43C1F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96B-872F-45AC-B566-A57510A6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644E7-BDFA-405F-999D-783A50CB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7CF69-478B-41EF-B035-1D4AD59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4077-50A3-4DA2-BF30-501CDBE2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0F119-97B1-440E-B08C-3601BF8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F34F6-6BFA-4EF1-BCD4-A639033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FB2E8-5735-4121-9036-3793113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1CF7B-F386-43D9-801D-231452A7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432E7-DBA9-4FC1-ABBF-9D8AD07D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AFCB4-9B41-4384-95A5-CBAFF16C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6D62E-20EF-4261-B6BA-4E61BE58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3FE-9165-4881-A637-F249811F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BEF23-A471-4EF8-9D03-658618E1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CC150-F107-4BC6-A337-6E07D151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8AD58-A29B-451C-9E6C-7B496A3A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481A5-FA39-4E57-9160-55F98C54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34FE7-67AD-4600-9893-A7A4B5BD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52F6D-749D-42A9-B46C-FAD1D2E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DC23-0C1E-40A2-BFD3-CE472DC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B7D90-B657-4D34-8F31-1A274FC3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0AA4-28D9-4974-8646-A1AC78A1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2604D-AF6A-48D4-AA7C-1C3310E9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D22-AEAB-4432-9CC2-4088AB0A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B45B-E06B-4857-9F5E-8DFF146A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08653-0935-4E5A-8349-F43783CD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726D5-B5E9-45CE-9A7E-EA845D8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ACB73-D420-44AF-BEED-E702C057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509E4-749B-4B11-8E57-8A80FB5D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4CEB8-9773-42A9-B942-E3C58E2F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66CFD-B83B-4DBE-8893-111D8AF3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E9642-31B8-4B86-BD75-FCAA6F7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7097-0CEC-4033-AD38-7960AC6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0038F-1773-40C9-89D1-7A953A8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22A-4FD2-4CA1-9FFB-241CF6EC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D2D8C-4687-4688-8C27-42D95672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0562F-9723-47E3-80A6-33C39939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E449-F38D-4FC9-A67C-6954FDBD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90822-B04F-49EC-B040-9B6DA8DC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E844-12E1-4190-BFD7-DA2BAD7C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B5D70-0F23-4C96-B078-AD1BAA7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2197D-0B46-43B7-AA2F-C5DB9D7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F974E-6058-4C54-B719-81C3E80A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30700-65D7-4B94-969B-4D3F22CB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D4F72-6DEE-4358-B6F8-ECA3BD0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FA22-5FFF-4DE7-A62F-2F17025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BBBB5-218E-4E7C-B666-C7253CAF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69202-9E04-4D56-85EC-A454F36A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8A32E-BBCB-4C6F-BB6C-6DD33B9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430E7-DFFD-406E-9348-1AC7754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71B19-5400-4A4D-8078-92429F22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3CF29-6B42-4988-B6B5-E512D0B8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BE577-8FAE-4959-8DC0-C893677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F25F4-D1CA-4A04-98BA-48BDB364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300AE-7ECA-4BE7-AE8E-D0425AC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1C782-4E30-4685-9321-B292DFF2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6A84-B516-4EBE-BD55-C089E1D8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8279F-F4B3-4D9A-AE93-5A3DDC30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E7B29-755E-4658-B5BF-D187FE2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BBDB4-CB5F-441A-9FD0-45BB2EE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7832B-9143-468C-A6EB-17A9FFCE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8534F-AB88-40AD-96CB-895B6480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5F314-1A07-487F-B355-18386891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0D6E9-4876-4188-AAA7-FA386E87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D3460-00BF-4E11-9C3C-28D1829E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403CA1-8DD7-41B3-9778-092AEF4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EC9C6-5427-49CB-B693-61A7F09D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13AC-C1A8-40B7-B756-A16A625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46608-A4CC-42D3-A4BA-44167700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1B73D-1F72-463D-AEE6-FC72F172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91713-C446-4EA2-9C78-03B956E4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BBF4A-3CBE-4543-ACE7-C593804D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1205B3-0089-4D02-A833-7938C1B2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6B1E5-87A9-41B1-AC78-EDD2616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2EF98-2436-456F-9BBE-F89011D8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F6D85-1D8A-4B0D-BF38-E9E38FE0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E6DC4-30F8-41A1-9108-F702A1494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70D9E-2A9F-4AE1-BDB5-28D531ED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84C7-30AE-41D5-AF07-3267B46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F48BC-B8BF-44DF-9164-3624FE9F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87B03-EA3B-4193-B4C5-4BCA480A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D13A0-7D61-4D5A-BF31-D3D6C75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C5D89-D95B-4A63-A21D-2310EA0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7C849-E27D-40B6-8423-5023DE25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1872B-2E76-4969-8403-7C235F63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97574-AEB1-470F-8415-42D8A8F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33C9F-3CB0-4E74-9901-E523A65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846CF0-9CD5-4BD2-966E-F216D2EE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300DE-2D53-4683-8C93-8DDCB783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059A-FDF4-4D78-8510-04F634D6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CE2F7-A3DD-4C2F-81A3-A01D0DEF5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948CE5-F281-4AF7-A938-A82B674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C63DE-03E8-49C4-835D-82E95295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F6F046-530B-4608-8668-101297EA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040A5-31DF-4CB4-BA65-85F2CC8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3B684-A748-4FF5-86A9-2F407BB4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A77C0-FAD6-406A-8735-F1A156E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4D90B-7E16-4F86-8515-C79B74C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48940-344F-436B-A34D-53144F90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20C35-E44C-49F5-8EFC-422569B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3C3A-3054-4734-83BD-92EB019D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80B79-A642-4D3E-9643-D84FAF6E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9D095-6A49-4320-B9D7-BBB44644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71B7F3-8D8B-4C88-8EC8-3D740598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12A09-49C6-40E7-A89E-ED364BFD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51F86-D042-459B-B75C-D9390D0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E0028-064A-41F3-8F71-D81F71E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5E66E-D8CF-4C12-897A-8861AAE1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174D8-304D-431E-9F0B-AF921FF6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40AFE-7459-45CE-A3F7-9C61FE9F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5997E-BB82-4AE7-8BAB-8AF9CC0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99F-A0B2-4454-BBEB-DA9B613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766B-C337-40BB-BD5F-B40B8BB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E4225-3CDD-48CE-B4E4-FEF4414D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84AFD-03BD-4E72-BEA9-3D84E7E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A3A0D-8ACF-4D98-B904-87548380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63C27-2861-49B1-815C-AB26148D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F102E-4484-4FF3-A76B-263841EC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497351-74D4-45A1-9A21-0AC0C35D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79809-6775-4A6C-9FDE-39AA1FC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67757-01FB-42E5-AA01-21BD49FB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56583-3DF7-4644-B06B-7D1451A5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06565-8B61-47F0-A608-6AF1F3DC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E67-E801-4B51-92AE-6784B41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50ABE-835D-4257-A4B9-A914CD1E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E83E03-5B7A-48BE-9FB7-5AE2BA0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F9A5E-5C7E-43D4-A9F5-56335BF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E3059-F29E-4862-89CC-BE2A4AD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C0651-23E4-407C-B713-7C780F2B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30B44-29E4-40DA-A567-4ED5BCED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56A102-30EB-486F-BCF3-CA12C287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7A554-1274-428A-8A2A-12FC35AD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DB95E-8B03-4393-99F3-954F351C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F664C8-0A64-4501-9E57-9578FE5F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6996-B44C-44B0-B002-74E3E524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13726-F1D4-4956-8290-6624C982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74C1FC-61D6-40B4-9ED0-393D58F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AA426-AFCF-4A79-B91C-BA6AB3D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A18F2-537F-4EAC-89FC-7575B111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530514-FF9F-43C5-A77F-FB86CFA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07B6E9-9AB4-4B0D-8FA4-7AC4B5B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4B3DB2-535C-42D7-824C-099AAD61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51D93-E3E1-4846-A92A-32F0E7E3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B2CD5-0A6E-4065-834D-F366BEBC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342A7-343F-4932-8929-E39F149A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A680-8595-4E7F-AD02-73D4ED62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73AAF-C932-425D-9095-D2914613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2EFF9-7578-4F33-9457-90527BEA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10BC98-0F04-430D-91D3-EA4E8F3A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2DC7A-6621-4D08-8DFF-FADDA3B8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47820-B5C2-45FC-9AE8-F36869D0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41CE2D-928D-49BC-B581-8B5EE263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527A9C-6650-4BAF-B4EC-9173DAA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A7593-474A-4C51-B8FC-9E79535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11540-A23D-42C2-9C67-2170283D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56018-D377-41BC-BF4F-A3FD9A48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E418-B902-4B11-A656-F5758E3A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DD3A19-086C-4E3C-AFCF-D22DF9E4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D592B-FEB2-46C1-BF76-7DA26101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F7C2B5-A32B-4879-A262-296E486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FD49C-E3D3-4CD7-A5A7-0EB6C4F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59D58-15AC-4E5A-B9D4-356FEFC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38503-9F5A-492A-BC12-4850FF6A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CFB7C-F2C7-4E52-8C3A-360EFE1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785DE-DBBC-4080-9938-67427093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B7B52-2103-47E9-BCD2-98252CF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51C9E-E036-4EDE-9DF0-427915D4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6C83-DDDB-4EB4-BD83-089F6914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1361B3-479C-4D9E-B097-D22A3B9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2803E-F691-4CF1-B1C4-9AD59C3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F6387-EFF5-40F7-864F-79F2BFDE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B803A-4C00-4568-B9B1-6F282173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FCF3-3BC6-4C5D-9558-1AB8E512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83BED-5865-47FA-A320-B4E5240F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8047-2784-4952-AF15-53834C14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572-5DCD-477B-BB6A-1E64562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3151-2314-44D9-929C-BB6F63F7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8658-1B74-4255-B717-9AA0495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7A1F7-E035-4491-A16E-0F22016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8A6B8-F4CF-46B6-B9B8-6BD434E5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1EA8-1958-4D92-B6D4-1A2E1A5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4CC9-C41A-4116-8B83-9557865F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8899-1744-41D5-A36E-DB77494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742B3-37BE-4F24-952E-EF1DB421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E1A80-F334-4227-8FAC-6780147A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985A-34B2-48C8-91D2-A7B18AB3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71F-3833-404A-8350-757E9748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F199-0F2F-4328-8983-9F07308E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79C7-73D6-48B3-8DBA-CC88048A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6DBB-50E3-487D-8043-41CB7ACA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B8CD-1C86-4EEA-806E-DE71B0AB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C9A8-0517-4598-B831-542F4593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C8AA-C57C-4C0E-92DD-D4BC783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B510-B8C4-4F7F-AFDF-F6276CD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2705-5666-40B3-AE83-7248C8BD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60F1-3667-4ECD-80D9-6959E433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B72FE-CCAF-45DF-874F-58D6D9E3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32E-F6F8-4929-9B23-CDC7DBB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FA96-0FFC-4D69-AF09-9E18192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45A4-A40B-4DAA-B4D2-4647622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B62D-1F01-4D5F-9745-66D4F9F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42DF-B138-467F-8F93-E1785205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3C425-F5E8-444F-A5A3-B71064B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A96D-6D97-4728-8BAC-8680E90A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7928E-7F73-4102-8181-FBBE21F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04CAD-89EE-46E5-BE92-8F93280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7DAD-2131-4527-8D76-2A5588D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73FA-EB62-4DC5-A574-4165F81F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5FC-9344-471F-9154-9FE593CF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FDE0-2172-4E92-B94A-437A25D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1637-8DF0-4A6D-9507-A0CD09AD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D739-F2A4-4902-B9FC-EC3A0D08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61883-89AB-488B-BD5E-9662019A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B46C-BE32-43A3-964E-EF5DADD4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E8692-CB39-4A35-B418-3D998B3D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C3950-0C13-4779-B68B-C49AD3F2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F83B-556F-48D5-AB5A-99CC01A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1AE29-8D51-484D-B41B-6FE0F04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3EDF5-6290-43BF-8346-3169567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6D2-3E0E-45E1-9A9A-0F215DB9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429D-455F-4143-ABB5-4DED4A9F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58A1-88DC-4A88-8EFD-F5BBD7D7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A37E9-BAAC-484F-87CB-AC23E49F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0AC4-D2E0-49F2-95AF-2317DED8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83095-35BD-45BA-BA7C-D6F25C6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586E-3425-44FC-837D-3FBBEE85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191F-830A-466A-A2AC-53B1A3D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7F72C-D8BC-404E-9B21-1F8DDAEB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43EB-7333-4F1F-86DB-D81CF3DD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4D8C0-BD06-452F-82DC-5EC1125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3CC-03C5-4514-A9C1-B33686AA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ED808-37E8-493B-84C1-4130E3F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F6683-FAC4-4160-AC56-A64B64A4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7749-6263-4982-A9DD-C242E796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6A91-2DED-4A7B-9557-72C2FF23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0F02-A899-4470-A9A7-E332924C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FD1AB-E1BB-4F76-BCFB-1CB9FAFB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75594-EC44-4D5C-AA44-EF7E0EF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7B2FB-4664-4F85-9593-991C429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A6EB0-C21F-4829-A719-AC761412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F19BB-8D66-4F21-83C2-68C194B0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478-5171-4040-82EC-95994483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C5DAE-9232-4B33-9F1E-1F5211DB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71744-4CF4-46B1-8BC9-146524A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C25E8-6D24-4980-BD84-24D9B074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09AA-FDE2-48F2-9F49-CC1DE42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784A-4A02-4366-A672-6F6B74DA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0CA99-5129-46D6-9005-F01C53E7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5A4D-ECFD-4441-BD15-AC36779F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BF503-5A71-47DD-86FF-2D815B66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D9C92-71CF-41CA-91CD-27E1EF40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4DCCE-2A21-4131-9595-073C9635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878-2913-49EB-90B7-4D759918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36CA-E2DF-4C9F-A1D2-5C5D83FC6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C63-ECC8-439A-80C9-1B76C71590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EF22-A195-4630-AD27-2F2ADF8B8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20A0-3861-4007-A9E5-66488838ED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89D-5B9C-4ACD-A0DC-FF199F46D2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D9F-9300-43B2-BAB8-06020550F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ABB2-5806-4930-897D-6850DDED7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476C-58F4-45FD-8566-EC5E97BA2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7DBE-C1E8-4B21-995E-DC70FEBF0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3692-B1AF-48B3-9754-3A7F1E7F58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375-F7C1-4FEE-88EC-C61B49126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0AFA-9033-4BB6-AA4A-C627406F9C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FA2-DA65-4EEC-B483-6AC7DDA4C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7379-5752-4125-9EF4-05BC4A2EB6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80EF-0357-402C-96C0-6F47E0C16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85AA-EB26-4C05-84A9-B5651BB307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D4E-4865-47AF-8557-1256786DD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0FE4-D20C-4EE1-9622-7A0529E7A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B0FA-9C77-4737-8C3C-15B9ACDDB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9F6-F186-4DBF-BCD4-271DBB507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E6C-247F-4503-9205-EBE070FA78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314-622F-431D-B984-1F85F2EF04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D2F8-54BC-41B2-8123-94F1CA3B7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66D6-8D74-472F-8F20-264BEB487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B07-7DBB-4745-A32D-A8DA25D3F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485-B024-48ED-93A4-5F6CFF6CD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913-F51E-4EAB-A600-1CF377B31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561-457F-4DD0-BCA9-91FFF7EBCB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A4C0-4C8D-40AA-8C0C-CF2376C5D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15F-DA2A-48C7-BC35-33D4FD331C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C0A-2E34-482E-8DAD-2C25D5959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AA0A-FF0C-4B6C-A513-983E80484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6DD-8AFB-4971-A209-E98A15890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4B1B-8F7E-4868-AD30-EA6F9F830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7BE5-84E5-4B66-AE2E-BA845FB8B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A1BE-5AA1-4641-9536-D3270099B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3E4-CF6D-4FAE-922A-458CBA6532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1D16-C149-4B2F-83E7-40A6D9D3DC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EE1A-39BD-48DB-B90D-E6800F86A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004760" y="3057480"/>
            <a:ext cx="71344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14440" y="952560"/>
            <a:ext cx="8115120" cy="495288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00080" y="2714760"/>
            <a:ext cx="46512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471600" y="1247760"/>
            <a:ext cx="8200800" cy="436248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71720" y="1357200"/>
            <a:ext cx="4651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2928960"/>
            <a:ext cx="4651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442800" y="971640"/>
            <a:ext cx="8258400" cy="4914720"/>
          </a:xfrm>
          <a:prstGeom prst="rect">
            <a:avLst/>
          </a:prstGeom>
          <a:ln w="0">
            <a:noFill/>
          </a:ln>
        </p:spPr>
      </p:pic>
      <p:sp>
        <p:nvSpPr>
          <p:cNvPr id="1029" name="矩形 2"/>
          <p:cNvSpPr/>
          <p:nvPr/>
        </p:nvSpPr>
        <p:spPr>
          <a:xfrm>
            <a:off x="1000080" y="1071720"/>
            <a:ext cx="46512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"/>
          <p:cNvSpPr/>
          <p:nvPr/>
        </p:nvSpPr>
        <p:spPr>
          <a:xfrm>
            <a:off x="928800" y="3143160"/>
            <a:ext cx="46512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95360" y="804960"/>
            <a:ext cx="8153280" cy="52480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643040" y="2357280"/>
            <a:ext cx="100008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7675560" y="2963880"/>
            <a:ext cx="96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928800" y="3478320"/>
            <a:ext cx="46512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5357880" y="407196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785960" y="4572000"/>
            <a:ext cx="11430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6215040" y="5143680"/>
            <a:ext cx="1143000" cy="377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20240" cy="61437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357280" y="1214280"/>
            <a:ext cx="157176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500720" y="2268360"/>
            <a:ext cx="2071440" cy="395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3286080" y="3286080"/>
            <a:ext cx="7146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1785960" y="4357800"/>
            <a:ext cx="1857240" cy="4078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643040" y="5929200"/>
            <a:ext cx="157176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80960" y="538200"/>
            <a:ext cx="8182080" cy="578160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1071720" y="4714920"/>
            <a:ext cx="13572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4254480" y="5226120"/>
            <a:ext cx="12142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4572000" y="5786280"/>
            <a:ext cx="135720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476280" y="1000080"/>
            <a:ext cx="8191440" cy="4857840"/>
          </a:xfrm>
          <a:prstGeom prst="rect">
            <a:avLst/>
          </a:prstGeom>
          <a:ln w="0">
            <a:noFill/>
          </a:ln>
        </p:spPr>
      </p:pic>
      <p:sp>
        <p:nvSpPr>
          <p:cNvPr id="1049" name="矩形 2"/>
          <p:cNvSpPr/>
          <p:nvPr/>
        </p:nvSpPr>
        <p:spPr>
          <a:xfrm>
            <a:off x="5143680" y="1000080"/>
            <a:ext cx="121428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3"/>
          <p:cNvSpPr/>
          <p:nvPr/>
        </p:nvSpPr>
        <p:spPr>
          <a:xfrm>
            <a:off x="2643120" y="1571760"/>
            <a:ext cx="121464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4"/>
          <p:cNvSpPr/>
          <p:nvPr/>
        </p:nvSpPr>
        <p:spPr>
          <a:xfrm>
            <a:off x="1143000" y="2071800"/>
            <a:ext cx="121428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5"/>
          <p:cNvSpPr/>
          <p:nvPr/>
        </p:nvSpPr>
        <p:spPr>
          <a:xfrm>
            <a:off x="1285920" y="3143160"/>
            <a:ext cx="121428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6"/>
          <p:cNvSpPr/>
          <p:nvPr/>
        </p:nvSpPr>
        <p:spPr>
          <a:xfrm>
            <a:off x="1143000" y="3714840"/>
            <a:ext cx="1500120" cy="374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7"/>
          <p:cNvSpPr/>
          <p:nvPr/>
        </p:nvSpPr>
        <p:spPr>
          <a:xfrm>
            <a:off x="4275000" y="4789440"/>
            <a:ext cx="121464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8"/>
          <p:cNvSpPr/>
          <p:nvPr/>
        </p:nvSpPr>
        <p:spPr>
          <a:xfrm>
            <a:off x="1214280" y="5357880"/>
            <a:ext cx="857520" cy="374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7:3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